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6DE-0371-45CE-83CD-0C2C445D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9B0-E78F-452F-AD43-B8D39EF8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2F1-E04F-4531-AD61-0B174C2B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30B0-ACA2-4B5F-BD05-AD8EAEE0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BF5-399D-4589-A1B6-D83FA12E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643-0CD6-428E-A082-ADFC0149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36F-4A3A-4393-A894-06B3C5A9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73F-E5AD-4A0A-9C3B-63AA7B8F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EB5-08AD-449F-BDCF-41113E4A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B9BE-D820-442B-B23D-4E7D8B95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346-93DE-421D-A1E0-0B7DC490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3C1-AED2-42DB-8779-8411CA6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8798-A7F4-47A6-834A-8A03E027F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2920" y="27000"/>
            <a:ext cx="88930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21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Ravie"/>
              </a:rPr>
              <a:t>jack</a:t>
            </a:r>
            <a:endParaRPr b="1" lang="en-US" sz="1800" spc="1" strike="noStrike">
              <a:ln w="92160">
                <a:solidFill>
                  <a:srgbClr val="ffff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90792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33360"/>
            <a:ext cx="7488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My favourite sport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Wake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Knee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04640"/>
            <a:ext cx="87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If you type jack on Google it comes up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Hungry j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Jack Dan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Jack Johnson (sin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36640"/>
            <a:ext cx="860436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My favourite food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Lasa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Dim –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Ice-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Ma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3:14:41Z</dcterms:created>
  <dc:creator>Admin</dc:creator>
  <dc:description/>
  <dc:language>en-US</dc:language>
  <cp:lastModifiedBy>Admin</cp:lastModifiedBy>
  <dcterms:modified xsi:type="dcterms:W3CDTF">2009-02-08T23:24:00Z</dcterms:modified>
  <cp:revision>2</cp:revision>
  <dc:subject/>
  <dc:title>Slide 1</dc:title>
</cp:coreProperties>
</file>